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5" y="0"/>
                </a:moveTo>
                <a:arcTo wR="5" hR="5" stAng="16200000" swAng="-5400000"/>
                <a:lnTo>
                  <a:pt x="0" y="31506"/>
                </a:lnTo>
                <a:arcTo wR="5" hR="5" stAng="10800000" swAng="-5400000"/>
                <a:lnTo>
                  <a:pt x="21595" y="315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5" y="0"/>
                </a:moveTo>
                <a:arcTo wR="5" hR="5" stAng="16200000" swAng="-5400000"/>
                <a:lnTo>
                  <a:pt x="0" y="31506"/>
                </a:lnTo>
                <a:arcTo wR="5" hR="5" stAng="10800000" swAng="-5400000"/>
                <a:lnTo>
                  <a:pt x="21595" y="315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5" y="0"/>
                </a:moveTo>
                <a:arcTo wR="5" hR="5" stAng="16200000" swAng="-5400000"/>
                <a:lnTo>
                  <a:pt x="0" y="31506"/>
                </a:lnTo>
                <a:arcTo wR="5" hR="5" stAng="10800000" swAng="-5400000"/>
                <a:lnTo>
                  <a:pt x="21595" y="315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5" y="0"/>
                </a:moveTo>
                <a:arcTo wR="5" hR="5" stAng="16200000" swAng="-5400000"/>
                <a:lnTo>
                  <a:pt x="0" y="31506"/>
                </a:lnTo>
                <a:arcTo wR="5" hR="5" stAng="10800000" swAng="-5400000"/>
                <a:lnTo>
                  <a:pt x="21595" y="315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82600" y="955800"/>
            <a:ext cx="444024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376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1182600" y="955800"/>
            <a:ext cx="444348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182600" y="955800"/>
            <a:ext cx="444348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56BD-A3D5-45BB-ABE7-AF8619156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F78D-309E-4FEE-8E12-19F17E68DE3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2C27-F327-4053-9CD7-B3F5743CADE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C781-F93C-4CBE-A91A-0CBD0D42DDE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B3E7-C95F-4B2C-B416-B40D3D14C89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1A418-0295-4ECA-9F8C-8D7A9DEDAFE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CF3A7-432B-4D47-8B91-54BAD3B9D42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0974-974F-4991-852D-837B17E71CE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7AC7-D355-4EF4-B855-7528FA2F3A3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DD653-CAF2-41A3-BE8B-53D26457A6C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390A7-3BEF-46A3-9068-AEB629F9A13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E76BF-1D36-4514-BE79-493F33CE0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1B0E-510B-42EC-AEF2-75FE33736AC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C83849-730F-46E1-80C5-04323C42828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C5B9DA-E12D-4DDF-A109-0509A116E06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7487B-0B44-44AC-BEC4-EBD068306BB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02F96-80C8-4B46-8C88-BBC7EA135A8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EF2868-5727-40B4-97A7-AACEF0CAE48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9FFE0-9AC7-4E58-82DC-747D45D57A9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0CBE8-1169-40F5-938C-788A108162C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B5B5B3-9849-402B-95BD-B2F5D192643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60E548-A3F0-4614-BB2A-FB7E6422E23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617316-17D9-4517-8C70-B72EAE87B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2128-B84D-456F-9957-AA66649FF8E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861376-2C4D-428F-9C3B-DF6CC2E9074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BC0B9-CDE1-4371-99B6-2CA74C1D7CD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09D8D-31E1-42E0-8384-E9BFF8CF7B1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93BBF-F234-4CB8-BA72-802A54139E6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A5FEE-84AF-44ED-B47D-F4708528671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FF7E3-F4CC-4E82-BC9F-DFB50C1F59C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71ADB-33E9-4B4D-A32F-706B6902419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535DA-C4EA-4F71-9B3A-EA6A07F4D23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F53F2-6288-43D3-9668-78871788EF7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218702-6AB3-4578-B170-E2FFC6FE0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A83B-54F2-41A9-BF8F-15EAAC601D4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40829-560C-4A78-8578-3937FA15298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F6D30-E2A5-4106-A75F-63D2E34D280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A1FED-1EB5-43CB-B9C1-F9F3593A50C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E522D-A4C1-498A-B5B2-338AC4B50A1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08345-6E2C-4457-921D-3F1DEE18EFE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2500-C31C-45A4-80BC-FE84F99E17D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74F1B-BD7A-4034-831E-B1CF5FE62FD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3CEE5-01A4-45A7-AC5F-1C3F6F2CBA1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A0CAE-3887-48AD-89FC-7D9558B4184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4EAE-214A-48E7-8BB0-DC91A67A36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0039A-0563-4E30-871A-ECE37A633D3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234CF-CF67-4682-BF2F-0B53BB56B79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51970-5DA9-44E8-8E25-41E4982A2EA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E7504-F511-4D33-B24B-114CEA07CAF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DF053-38EF-4C9C-8135-CAE52CE11FA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CD5BA-445E-4CCB-B101-0011196594C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94FAC6-38E3-448F-9925-BDB5F71D388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7DE42C-31F5-438D-81E9-742D925470E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5E9BBA-D052-4F4C-B3CF-66549E1A0E6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CE2936-AC0B-461C-BB30-26F5312140B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FC992D-A374-49E6-BA26-61C21A051E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E185-8B75-4007-8DFE-841C6B93241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E39F21-5E49-449E-8FC1-33EEADA0C3B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FA354D-E877-46C7-BD07-A14B8964F05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ACC6F8-B1C6-4727-BEA8-065ED78C364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638088-6252-42FE-9278-74DE954D49E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FE67E3-B589-4E2E-82DF-A72725FD6AF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BE78C8-0ED3-4D8A-BFC2-96882E4CAF3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FC3C70-3853-474B-A071-EC44C9EBD56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6DA6F-0FE8-4727-B86D-741DE48FC61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38348-3D9C-48D9-BFC3-4D9077136EE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035BC-61A3-4EFE-9BBD-4E19EFA773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8E2D-ED72-4EF2-8C87-2CCC65E071E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D950B-E040-44B3-B7D7-DDD03E71E1A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E736C-C34E-4463-88BB-792C2E07B97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C4C14-0ADB-467C-BFA1-17E4899E305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F274F-B535-4D1F-9CD4-D6A9EC51E79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E9335A-1BA5-4070-9ED2-AC1D5E19543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8661A-8E12-4722-B5A4-554D1A16AE3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98A3A-A838-4075-9DCB-1B920C0BB91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AD034-D194-4E85-B72B-040D9EFF7DD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236DE-FB08-4DB7-9C21-BCCA5C9F76B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EFBB4-66D4-48DB-8991-3515EE929E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DBC9C-32D6-4DAC-96FF-C2992EA2BAF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CAE6-5D31-4546-91D1-BA5F186F83B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975ED-0EE7-45CA-969E-1CC0CD7FCCB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830C5-7916-4D23-AB59-98726423061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E344A-FCE0-47DA-819A-A8CE9FF1149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BDFDB-3761-4264-9F6A-5F69AE65F67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8D1B8-4C1A-4568-9166-757C4673239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D9830-DB70-47CD-8971-8188B50E877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6F77C-6191-41C0-9424-A76C437C440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2D29D-D063-4514-BCE0-A1966151702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4C707-D836-4A50-A032-469F3EA839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FC22-38F2-44CA-9492-11761DDED16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B3527-DAE6-4DAE-9AEF-B3D1669BC98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67A590-4AA9-4B59-B7A8-BF631D4DA34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DFD4D6-9A41-46A7-924E-5FDC394BA5C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A56A3-5ABC-4287-BDC9-9AB9EB427CF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AA68F3-7640-4F07-AB22-72740C76110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2383D8-B708-4430-9788-9582B7A8682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0E9326-7E64-4037-BD1A-228260286FD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756877-7FD3-4B84-905F-2E264537F0E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BE0C5C-917D-41B1-9864-9CCBE35ADA9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FF061B-1FF3-43F1-825D-D950FCAB8E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D710-B37C-4555-9042-EB19DC12C8B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912C42-0544-4785-8AB8-DB939E224EE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249885-353B-4AD9-A200-0E8FC25AD90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27FB8B-3A16-456C-8DF3-4AFC2055112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19A1F-3838-4B8C-AC17-F53E07EA1FE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82B05-E05B-48EC-BDCB-73F67F9BC5F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CF7AE-5146-410E-A9CC-59DD1421BAE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1A2D2B-A08B-4017-ADEB-57252951D89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7EEE9-CAA1-4C5A-BBC2-B8DB17D97CD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FB9A3-5BA6-4B97-9986-BD863E5D18C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557B0-1D33-4698-9820-D5F2A9CDAC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4E36-6F59-47EC-807B-8845BFB21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B2FD-A2E3-4B82-B825-A52FC5345F5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909CE-B42C-4411-A45C-9BD037D33EF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B4D95-1C1E-41E4-899C-AA7E49AB9F7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97D8D-3944-4BE4-9686-84D50B12D97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F6A17-8C98-4E93-B8F1-167437DDE74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3DFCF-C1F8-4704-BBE3-1C031B101EA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FD7BA-6CA4-41B8-BDDA-4CBD70DBD22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399E6-430A-479C-AEBA-589DFD8415D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285E3-364A-408E-AB99-72FC874BBCD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B427-64DF-4F7B-8266-4F9519A8F77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1E17A-A217-4F19-8A45-6C5737CC47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EB23-ECF6-4BEA-86AB-50FDF05C8CD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B3790-D2DA-4E9F-A20B-DD1874B1E78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C7FE5-A5C0-4B31-B399-925A2D6525B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CF83-52B8-446A-9B00-C996935B62C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BF9C4-A051-475F-918C-AC97DC48ADC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AC68C-8155-4B9C-82A7-C79E00E9C99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CA0F9-0A7E-47E3-BE9D-07219F02233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A370B-C484-4E7B-94DE-C608858F74E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5B4D47-C499-43BB-9BD0-99D0734CD8C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828798-0711-4EA1-8C47-8A89913F213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E92502-0473-4274-8CCF-C645E62298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6AAC-6B9B-4305-9C03-F1DD1F21F98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EBB3F5-47BC-40EF-B456-6FF0AB8CCBC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52EF15-7BF3-489D-A855-A7FBBE77412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390721-5A6C-4773-B0CD-985491C8E70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788CD2-9878-42DA-8463-A96F34D518B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BD3836-8B8E-40DD-A7DE-7A34321D2CA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BDDBA-D8A7-41EC-9FCB-73F0E0F017E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11E8A2-F3C0-457E-BE58-C9E535DA800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203F04-CF09-474C-B8B9-3C55B96DDD0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F56546-5F23-42BD-A182-BCBB996A8FC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2C80CA-4EFE-42C3-88B1-DD9AD5C2ED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B6FC-D61D-4B0E-84F0-19E32228897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6F910-C438-43AF-9751-ADAE8124691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D125C-CA67-49CA-9CAF-430FCC6F94C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A1CC36-926F-4FE0-825F-990EE79D888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377548-299D-4FB8-AE38-BE5E86C71A4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B1C952-9C9A-40C5-8272-C9CA10DF768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A6656-316D-4D64-8325-C31E57353F2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2B82A-AAF9-411B-98B3-458D438B05B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A4364-31ED-43B8-8E45-367FE73C958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FA4CF-4003-430D-B9F8-D028074E03A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06A69-1B10-4480-9365-6C8EC26D40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9242-8E9A-449C-93EA-907FA7E345B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52DC8-E638-4FF3-9D1B-19DD3B6A1F6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A0872-B533-4337-B7D1-16D95D74A7E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3ECC-F009-4A5C-AA73-8BA2B2E8CAE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E108E-815F-409E-95C8-784577258AB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E1BE9-E492-4CF3-B9FD-532DC688CBF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6E076-6ABD-43C8-B5F1-CA14D27C3EA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3036D-57A9-4972-ABD3-CA4996CD04E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23AD9-95C1-4C13-A9E2-35E1D587AF5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2FE23-482D-4D30-B3B6-A7EA3EC2DCC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71242-7738-4C50-A2C7-6BA3B77E96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BDA-3C79-4C3E-92A8-E20E56D7CFA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16988-7B91-4669-838E-908837E99EC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F2DD0-0100-4792-B7C4-120B6B2DFF0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89C29-3CEB-419A-8134-30EFEDEC5A2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B3C-2BD1-41A7-BE38-BEA2287CC81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2EB-5878-4E99-9E5F-A47B8BD269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A77-E1C3-42F4-83B2-6697D704C8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B0C-AF96-4A31-ABE7-F74CCF945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459E-F472-4C0F-B4A2-A905BACCE9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F7A-435A-47FD-8E32-BE4599E58E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3C6-2B80-4CAA-8EBF-9E076DDD93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9B4-6F3B-4F79-8829-3A6807021C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B1F-514F-45F4-A73D-0A9085E4D4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1B2-3B05-45B4-A5BE-B0DB5D340E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5DB-ABE2-4EB9-912B-A2A75D4C4D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B0B-D83B-4630-A66C-B03D4731A7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6C15D-C5F6-4B06-AED7-68795B8DDF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E1643-73A1-4D4C-8D97-8B5E7B87EF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E3C66-B4E6-42C6-8985-D98BA3D4C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1105-17CD-4B23-96E2-FFBD61D32B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EDE90-89EB-4C6C-A22E-3BA0870857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1A5C6-2755-4640-A9D2-F9BE508699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6AD3C-CDD1-4E24-AF50-F278D84E78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288BD-7273-442A-A0A1-52714272FA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EFF87-82FA-4453-86CC-602BD3E030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56198-7A78-4A92-B683-B345F99AD2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26927-4D73-4BB0-B344-EF7E0C65F5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FD81D-1886-45D5-AA2A-A022D918B3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8D8BA-E93C-4630-B0DF-B275AB597A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D6A86-6262-4821-BCB5-9165F9D3A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7A7D-97D2-41B4-9435-307C15452B9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1200E-E30A-4190-9B4B-182A1D67E3C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29707-91FB-427B-AED3-ACFBD875083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D3DDB-6374-4142-A2F9-5662023207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9609E-C584-4CA2-AAD2-54C0E626A9E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559DA-D0A8-4DAB-A6D8-82FB4E76518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5EAC1-59C0-450D-A8B2-574832A1587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4AB87-463A-4F8D-9AB8-50482CE055E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5F9C9-7F90-4578-B604-3E67CDAAA1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A7E76-CEE5-4126-845F-E2490743DA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34229-AA8E-427F-9F6B-5D2D3E190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6326-1680-4347-86E7-4FBEB0B721C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83674-136D-4450-827A-6D18FC227D2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65A8-E412-4ACD-83F9-441D404D26F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084E-13F1-4C95-ABF0-392D5457A41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9338-BD89-427A-9CF4-6410AEE7416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3666-CF72-4C86-8704-003BE8938C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2379-CE32-49AC-8837-08DCA74999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E83D-157D-4F86-A624-B6A6AAE8EF4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E21D-96D1-4ABC-8496-F0F4BE60199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A072-DB6E-4788-B140-9BA08D82C91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7189-A464-4C6C-BABC-2B983891C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39EC-5A5D-444E-8922-30B1D918CC4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D82D-B66A-4665-9B0F-D0B6E6E29E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FFDF-DEAF-4098-9AA2-0BB18854D8D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5A75-E4A6-4AB5-BE6B-7CE4AB9A1E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BEB970-8EAA-427A-8401-687A6DC28E1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1E121-B7CC-4D19-BFCE-BFD8D12A1F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47EF81-A1D3-46B4-A4EB-FE77A876E3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EBAB7-DC95-4E60-8221-46562747B0A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AC186-9181-4836-912A-55348214902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7A181-A888-4E76-822D-988DAA2D916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40C692-BAD5-4A59-8B68-54D657613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8391-D4EC-4FBC-9BC9-8AAFAF92123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41453C-40B4-4066-82D0-71B0FB1F91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7DDBE9-9D02-4D0A-AA42-61D6048014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07152-674A-42BF-BA55-85A4C3CFD77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6227F2-2B82-4CDD-B1BE-DE2B0719389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9059BE-7D8B-4907-BCED-7F0968DB74E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CD658-8CD5-4E3F-BC01-D1432D5F7E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D459C-F1C4-45D0-82D3-9F81EC18B1D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9074C-77AE-4E2A-8980-B134FA245B9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49F86-958F-4DA4-A59B-1ED1C7FD2D8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03615-1051-45EB-B442-895046CE3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4B30-52E8-4625-9132-BED5FE128DF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D94B3-71DA-46BC-9E44-1CBDAB73DF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DA516-67ED-4C2F-A6CA-BCC092680CD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0E1D0-B562-49EF-AE01-B1DF2BE34B9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24554-0EB1-4354-BC73-C3B22F232D0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2AE09-A8B2-4762-A7AB-20B31210943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6D8A6-7942-4681-A761-038FFC5C066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BE7F9-0BEE-409F-84BF-1D40190133D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8AE4-CFF7-4217-8702-6F706FB2559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5C2E0-97AF-408D-B2EE-185F2031BBE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F079-7B77-4D79-A101-E79F4AB96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1" name=""/>
            <p:cNvSpPr/>
            <p:nvPr/>
          </p:nvSpPr>
          <p:spPr>
            <a:xfrm>
              <a:off x="8304480" y="1080"/>
              <a:ext cx="837720" cy="685512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160" y="0"/>
              <a:ext cx="3042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2480" y="0"/>
              <a:ext cx="685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0560" y="0"/>
              <a:ext cx="38088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360" y="0"/>
              <a:ext cx="609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1760" y="0"/>
              <a:ext cx="9140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684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68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82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000" y="0"/>
              <a:ext cx="8377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0720" y="0"/>
              <a:ext cx="22824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7640" y="0"/>
              <a:ext cx="39960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0080" y="0"/>
              <a:ext cx="228240" cy="685656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3760" y="0"/>
              <a:ext cx="10663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1640" y="0"/>
              <a:ext cx="9900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28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3760" y="0"/>
              <a:ext cx="2408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160" y="0"/>
              <a:ext cx="5331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80" y="6150240"/>
              <a:ext cx="9142560" cy="705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7280"/>
              <a:ext cx="9158400" cy="276120"/>
            </a:xfrm>
            <a:prstGeom prst="pie">
              <a:avLst/>
            </a:prstGeom>
            <a:gradFill rotWithShape="0">
              <a:gsLst>
                <a:gs pos="0">
                  <a:srgbClr val="080808"/>
                </a:gs>
                <a:gs pos="50000">
                  <a:srgbClr val="000000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18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3480"/>
            <a:ext cx="212256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C0CCC-379D-4CED-86D7-739D0B54CFF6}" type="slidenum">
              <a:rPr b="0" lang="ru-RU" sz="10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57200" y="6248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0" y="0"/>
            <a:ext cx="8456760" cy="5941800"/>
            <a:chOff x="0" y="0"/>
            <a:chExt cx="8456760" cy="5941800"/>
          </a:xfrm>
        </p:grpSpPr>
        <p:sp>
          <p:nvSpPr>
            <p:cNvPr id="469" name=""/>
            <p:cNvSpPr/>
            <p:nvPr/>
          </p:nvSpPr>
          <p:spPr>
            <a:xfrm>
              <a:off x="0" y="2285280"/>
              <a:ext cx="8182080" cy="3656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0"/>
              <a:ext cx="8456760" cy="585468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624528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24080" y="62452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71F179F-C36C-4ACB-8ED5-226FE2125BD3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3b"/>
            </a:gs>
            <a:gs pos="50000">
              <a:srgbClr val="000000"/>
            </a:gs>
            <a:gs pos="100000">
              <a:srgbClr val="00763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33720" y="473040"/>
            <a:ext cx="4874760" cy="3502800"/>
            <a:chOff x="2133720" y="473040"/>
            <a:chExt cx="4874760" cy="3502800"/>
          </a:xfrm>
        </p:grpSpPr>
        <p:sp>
          <p:nvSpPr>
            <p:cNvPr id="514" name=""/>
            <p:cNvSpPr/>
            <p:nvPr/>
          </p:nvSpPr>
          <p:spPr>
            <a:xfrm>
              <a:off x="2133720" y="1643040"/>
              <a:ext cx="161532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91720" y="1643040"/>
              <a:ext cx="161676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93720" y="473040"/>
              <a:ext cx="4172040" cy="3502800"/>
              <a:chOff x="2493720" y="473040"/>
              <a:chExt cx="4172040" cy="3502800"/>
            </a:xfrm>
          </p:grpSpPr>
          <p:sp>
            <p:nvSpPr>
              <p:cNvPr id="517" name=""/>
              <p:cNvSpPr/>
              <p:nvPr/>
            </p:nvSpPr>
            <p:spPr>
              <a:xfrm flipH="1" rot="10800000">
                <a:off x="2493720" y="492840"/>
                <a:ext cx="4170600" cy="348300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93720" y="473040"/>
                <a:ext cx="2085840" cy="348444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493720" y="473040"/>
                <a:ext cx="4172040" cy="34380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78120" y="473040"/>
                <a:ext cx="2087280" cy="348444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133720" y="2589120"/>
              <a:ext cx="4869000" cy="492120"/>
            </a:xfrm>
            <a:prstGeom prst="rect">
              <a:avLst/>
            </a:prstGeom>
            <a:gradFill rotWithShape="0">
              <a:gsLst>
                <a:gs pos="0">
                  <a:srgbClr val="71bb96"/>
                </a:gs>
                <a:gs pos="50000">
                  <a:srgbClr val="000000"/>
                </a:gs>
                <a:gs pos="100000">
                  <a:srgbClr val="71bb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75440" cy="14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24080" y="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11"/>
          </p:nvPr>
        </p:nvSpPr>
        <p:spPr>
          <a:xfrm>
            <a:off x="6552720" y="-36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8EBF45-3EEC-4DB0-A3A6-BD6F9BA53B7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-7758000" y="1463760"/>
            <a:ext cx="16900200" cy="10793160"/>
            <a:chOff x="-7758000" y="1463760"/>
            <a:chExt cx="16900200" cy="10793160"/>
          </a:xfrm>
        </p:grpSpPr>
        <p:sp>
          <p:nvSpPr>
            <p:cNvPr id="564" name=""/>
            <p:cNvSpPr/>
            <p:nvPr/>
          </p:nvSpPr>
          <p:spPr>
            <a:xfrm>
              <a:off x="3270600" y="2709360"/>
              <a:ext cx="5871600" cy="414756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-7758000" y="1463760"/>
              <a:ext cx="13451040" cy="10793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Num" idx="12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896EB5-8D07-447D-B13C-2796F1BA7A5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608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Num" idx="13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1B8D46-8B49-4779-9F68-3B7347E6721B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652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14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26400B-6B29-4862-9673-6309656C40E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696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Num" idx="15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536B3C-5EC4-4E46-976B-C1AB02DD666C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740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sldNum" idx="16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D4A543-4214-427A-988A-FB5BF3C39DC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784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sldNum" idx="17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3B7E84-99D4-479C-8F24-A3D4EF9F816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828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Num" idx="18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5FFD64-0314-476C-845C-4A0F43CA787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872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sldNum" idx="19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3C6A5B-8FB0-414A-A80E-3219F64A81A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6480"/>
            <a:ext cx="9138960" cy="6849720"/>
            <a:chOff x="0" y="6480"/>
            <a:chExt cx="9138960" cy="6849720"/>
          </a:xfrm>
        </p:grpSpPr>
        <p:sp>
          <p:nvSpPr>
            <p:cNvPr id="64" name=""/>
            <p:cNvSpPr/>
            <p:nvPr/>
          </p:nvSpPr>
          <p:spPr>
            <a:xfrm>
              <a:off x="885600" y="1842480"/>
              <a:ext cx="8253360" cy="5013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1842480"/>
              <a:ext cx="885600" cy="5013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0" y="6480"/>
              <a:ext cx="9137520" cy="6848280"/>
              <a:chOff x="0" y="6480"/>
              <a:chExt cx="9137520" cy="6848280"/>
            </a:xfrm>
          </p:grpSpPr>
          <p:sp>
            <p:nvSpPr>
              <p:cNvPr id="67" name=""/>
              <p:cNvSpPr/>
              <p:nvPr/>
            </p:nvSpPr>
            <p:spPr>
              <a:xfrm>
                <a:off x="875880" y="6480"/>
                <a:ext cx="18720" cy="110232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5880" y="2575080"/>
                <a:ext cx="18720" cy="42796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17120" y="1832400"/>
                <a:ext cx="7520400" cy="1872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75880" y="2175480"/>
                <a:ext cx="18720" cy="39960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75880" y="1108800"/>
                <a:ext cx="18720" cy="399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75880" y="1509120"/>
                <a:ext cx="18720" cy="6663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832400"/>
                <a:ext cx="556920" cy="18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6800" y="1832400"/>
                <a:ext cx="399960" cy="187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2240" y="1832400"/>
                <a:ext cx="664560" cy="18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0066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2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532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624852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2"/>
          </p:nvPr>
        </p:nvSpPr>
        <p:spPr>
          <a:xfrm>
            <a:off x="6705720" y="6248160"/>
            <a:ext cx="18936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A0D77B-93BC-4E62-89A4-CD1488193595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916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sldNum" idx="20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364A406-C5C1-4371-A99C-44455DFC135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960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sldNum" idx="21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BF44673-BDF7-434C-9C5F-4902C77CC249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7240680" cy="1979280"/>
            <a:chOff x="0" y="0"/>
            <a:chExt cx="7240680" cy="1979280"/>
          </a:xfrm>
        </p:grpSpPr>
        <p:sp>
          <p:nvSpPr>
            <p:cNvPr id="118" name=""/>
            <p:cNvSpPr/>
            <p:nvPr/>
          </p:nvSpPr>
          <p:spPr>
            <a:xfrm>
              <a:off x="0" y="924840"/>
              <a:ext cx="7121520" cy="105444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0"/>
              <a:ext cx="7240680" cy="190188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24528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52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8F1432-574C-460A-95E7-C32B268A5A59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2280" y="374760"/>
            <a:ext cx="1522080" cy="1239120"/>
            <a:chOff x="152280" y="374760"/>
            <a:chExt cx="1522080" cy="1239120"/>
          </a:xfrm>
        </p:grpSpPr>
        <p:sp>
          <p:nvSpPr>
            <p:cNvPr id="163" name=""/>
            <p:cNvSpPr/>
            <p:nvPr/>
          </p:nvSpPr>
          <p:spPr>
            <a:xfrm>
              <a:off x="1168560" y="785880"/>
              <a:ext cx="50580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280" y="785880"/>
              <a:ext cx="50580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38680" y="374760"/>
              <a:ext cx="1298880" cy="1239120"/>
              <a:chOff x="238680" y="374760"/>
              <a:chExt cx="1298880" cy="1239120"/>
            </a:xfrm>
          </p:grpSpPr>
          <p:sp>
            <p:nvSpPr>
              <p:cNvPr id="166" name=""/>
              <p:cNvSpPr/>
              <p:nvPr/>
            </p:nvSpPr>
            <p:spPr>
              <a:xfrm flipH="1" rot="10800000">
                <a:off x="238320" y="394560"/>
                <a:ext cx="1296360" cy="121932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9400" y="374760"/>
                <a:ext cx="650160" cy="122076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39400" y="374760"/>
                <a:ext cx="1298160" cy="1213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88480" y="374760"/>
                <a:ext cx="649080" cy="122076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52280" y="1117440"/>
              <a:ext cx="1519200" cy="173160"/>
            </a:xfrm>
            <a:prstGeom prst="rect">
              <a:avLst/>
            </a:prstGeom>
            <a:gradFill rotWithShape="0">
              <a:gsLst>
                <a:gs pos="0">
                  <a:srgbClr val="71bb96"/>
                </a:gs>
                <a:gs pos="50000">
                  <a:srgbClr val="000000"/>
                </a:gs>
                <a:gs pos="100000">
                  <a:srgbClr val="71bb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75440" cy="14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39936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39936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4"/>
          </p:nvPr>
        </p:nvSpPr>
        <p:spPr>
          <a:xfrm>
            <a:off x="6552720" y="639900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C249DEB-C962-45C1-9B49-D1B5BA1F336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213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5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72F871-C908-4B7E-92A1-D48B58CA5413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77840" y="230040"/>
            <a:ext cx="200880" cy="6502320"/>
            <a:chOff x="177840" y="230040"/>
            <a:chExt cx="200880" cy="6502320"/>
          </a:xfrm>
        </p:grpSpPr>
        <p:sp>
          <p:nvSpPr>
            <p:cNvPr id="257" name=""/>
            <p:cNvSpPr/>
            <p:nvPr/>
          </p:nvSpPr>
          <p:spPr>
            <a:xfrm flipH="1">
              <a:off x="303120" y="256680"/>
              <a:ext cx="75240" cy="6475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7840" y="230040"/>
              <a:ext cx="75600" cy="6255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8802720" y="236520"/>
            <a:ext cx="187920" cy="6388920"/>
            <a:chOff x="8802720" y="236520"/>
            <a:chExt cx="187920" cy="6388920"/>
          </a:xfrm>
        </p:grpSpPr>
        <p:sp>
          <p:nvSpPr>
            <p:cNvPr id="260" name=""/>
            <p:cNvSpPr/>
            <p:nvPr/>
          </p:nvSpPr>
          <p:spPr>
            <a:xfrm flipH="1" flipV="1" rot="10800000">
              <a:off x="8922960" y="236520"/>
              <a:ext cx="6732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10800000">
              <a:off x="8802720" y="376560"/>
              <a:ext cx="7704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03200" y="6475320"/>
            <a:ext cx="8685360" cy="228240"/>
            <a:chOff x="403200" y="6475320"/>
            <a:chExt cx="8685360" cy="228240"/>
          </a:xfrm>
        </p:grpSpPr>
        <p:sp>
          <p:nvSpPr>
            <p:cNvPr id="263" name=""/>
            <p:cNvSpPr/>
            <p:nvPr/>
          </p:nvSpPr>
          <p:spPr>
            <a:xfrm flipV="1" rot="5400000">
              <a:off x="4708080" y="2170440"/>
              <a:ext cx="75600" cy="8685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5400000">
              <a:off x="4615200" y="2415960"/>
              <a:ext cx="75600" cy="8499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6600" y="176040"/>
            <a:ext cx="8743680" cy="160920"/>
            <a:chOff x="66600" y="176040"/>
            <a:chExt cx="8743680" cy="160920"/>
          </a:xfrm>
        </p:grpSpPr>
        <p:sp>
          <p:nvSpPr>
            <p:cNvPr id="266" name=""/>
            <p:cNvSpPr/>
            <p:nvPr/>
          </p:nvSpPr>
          <p:spPr>
            <a:xfrm flipV="1" rot="5400000">
              <a:off x="4519440" y="-3953880"/>
              <a:ext cx="57960" cy="8523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5400000">
              <a:off x="4407840" y="-4165200"/>
              <a:ext cx="59760" cy="8742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9898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761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60120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0120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6"/>
          </p:nvPr>
        </p:nvSpPr>
        <p:spPr>
          <a:xfrm>
            <a:off x="6857640" y="601308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A9F5F9-0B9F-476F-A216-8EC81F88CB17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310" name=""/>
            <p:cNvSpPr/>
            <p:nvPr/>
          </p:nvSpPr>
          <p:spPr>
            <a:xfrm>
              <a:off x="8304480" y="1080"/>
              <a:ext cx="837720" cy="685512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76160" y="0"/>
              <a:ext cx="3042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42480" y="0"/>
              <a:ext cx="685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80560" y="0"/>
              <a:ext cx="38088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360" y="0"/>
              <a:ext cx="609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1760" y="0"/>
              <a:ext cx="9140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684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0"/>
              <a:ext cx="4568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82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000" y="0"/>
              <a:ext cx="8377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0720" y="0"/>
              <a:ext cx="22824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37640" y="0"/>
              <a:ext cx="39960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90080" y="0"/>
              <a:ext cx="228240" cy="685656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13760" y="0"/>
              <a:ext cx="10663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61640" y="0"/>
              <a:ext cx="9900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480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28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53760" y="0"/>
              <a:ext cx="2408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55160" y="0"/>
              <a:ext cx="5331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80" y="6150240"/>
              <a:ext cx="9142560" cy="705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6137280"/>
              <a:ext cx="9158400" cy="276120"/>
            </a:xfrm>
            <a:prstGeom prst="pie">
              <a:avLst/>
            </a:prstGeom>
            <a:gradFill rotWithShape="0">
              <a:gsLst>
                <a:gs pos="0">
                  <a:srgbClr val="080808"/>
                </a:gs>
                <a:gs pos="50000">
                  <a:srgbClr val="000000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18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624348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7"/>
          </p:nvPr>
        </p:nvSpPr>
        <p:spPr>
          <a:xfrm>
            <a:off x="6553080" y="6243480"/>
            <a:ext cx="212256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AAC1D4-2322-4194-BC5D-A13EFFB027A3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79440" y="445680"/>
            <a:ext cx="7075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279440" y="1599840"/>
            <a:ext cx="52466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64292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4292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8"/>
          </p:nvPr>
        </p:nvSpPr>
        <p:spPr>
          <a:xfrm>
            <a:off x="6553080" y="6428880"/>
            <a:ext cx="212256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E13CB9-6BCB-4873-AEEA-5249393620E8}" type="slidenum">
              <a:rPr b="0" lang="ru-RU" sz="12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0" y="6480"/>
            <a:ext cx="9138960" cy="6850080"/>
            <a:chOff x="0" y="6480"/>
            <a:chExt cx="9138960" cy="6850080"/>
          </a:xfrm>
        </p:grpSpPr>
        <p:grpSp>
          <p:nvGrpSpPr>
            <p:cNvPr id="414" name=""/>
            <p:cNvGrpSpPr/>
            <p:nvPr/>
          </p:nvGrpSpPr>
          <p:grpSpPr>
            <a:xfrm>
              <a:off x="0" y="1843200"/>
              <a:ext cx="9138960" cy="5013360"/>
              <a:chOff x="0" y="1843200"/>
              <a:chExt cx="9138960" cy="5013360"/>
            </a:xfrm>
          </p:grpSpPr>
          <p:sp>
            <p:nvSpPr>
              <p:cNvPr id="415" name=""/>
              <p:cNvSpPr/>
              <p:nvPr/>
            </p:nvSpPr>
            <p:spPr>
              <a:xfrm>
                <a:off x="885600" y="1843200"/>
                <a:ext cx="8253360" cy="50133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843200"/>
                <a:ext cx="885600" cy="501336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52600" y="6480"/>
              <a:ext cx="8586360" cy="6849720"/>
              <a:chOff x="552600" y="6480"/>
              <a:chExt cx="8586360" cy="6849720"/>
            </a:xfrm>
          </p:grpSpPr>
          <p:sp>
            <p:nvSpPr>
              <p:cNvPr id="421" name=""/>
              <p:cNvSpPr/>
              <p:nvPr/>
            </p:nvSpPr>
            <p:spPr>
              <a:xfrm>
                <a:off x="875880" y="6480"/>
                <a:ext cx="18720" cy="11026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75880" y="2575800"/>
                <a:ext cx="18720" cy="4280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17480" y="1832760"/>
                <a:ext cx="7521480" cy="1872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75880" y="2175840"/>
                <a:ext cx="18720" cy="39960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75880" y="1109160"/>
                <a:ext cx="18720" cy="399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52600" y="1832760"/>
                <a:ext cx="664560" cy="18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0066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2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532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526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9"/>
          </p:nvPr>
        </p:nvSpPr>
        <p:spPr>
          <a:xfrm>
            <a:off x="6705720" y="6248160"/>
            <a:ext cx="18936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300FCB-905F-46FF-A505-3AF8D326E09D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2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3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4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5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6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7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8" Type="http://schemas.openxmlformats.org/officeDocument/2006/relationships/slideLayout" Target="../slideLayouts/slideLayout253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7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61680" y="310680"/>
            <a:ext cx="7808760" cy="55674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Какие комплексные </a:t>
            </a:r>
            <a:br>
              <a:rPr sz="4800"/>
            </a:b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задания помогут </a:t>
            </a:r>
            <a:br>
              <a:rPr sz="4800"/>
            </a:b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ребенку освоить основные графические умения?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7559640" cy="5580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539640" y="720720"/>
            <a:ext cx="7740720" cy="5400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4140360" y="3240000"/>
            <a:ext cx="4140000" cy="276552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2"/>
          <a:stretch/>
        </p:blipFill>
        <p:spPr>
          <a:xfrm>
            <a:off x="720720" y="900000"/>
            <a:ext cx="4859280" cy="20462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71400" y="523440"/>
            <a:ext cx="78026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99284c"/>
                </a:solidFill>
                <a:latin typeface="Arial"/>
              </a:rPr>
              <a:t>Мозаика</a:t>
            </a:r>
            <a:endParaRPr b="1" i="1" lang="en-US" sz="9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745920" y="1982880"/>
            <a:ext cx="7630920" cy="28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Узор из скрепленных с друг другом кусочков смальты, разноцветныхкамешков, эмали, дерева, мозаики из стекла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/>
          <p:cNvPicPr/>
          <p:nvPr/>
        </p:nvPicPr>
        <p:blipFill>
          <a:blip r:embed="rId2"/>
          <a:stretch/>
        </p:blipFill>
        <p:spPr>
          <a:xfrm>
            <a:off x="720720" y="3419640"/>
            <a:ext cx="3419640" cy="270000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3"/>
          <a:stretch/>
        </p:blipFill>
        <p:spPr>
          <a:xfrm>
            <a:off x="720720" y="720720"/>
            <a:ext cx="3419640" cy="2340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900000" y="900000"/>
            <a:ext cx="3419640" cy="306072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2"/>
          <a:stretch/>
        </p:blipFill>
        <p:spPr>
          <a:xfrm>
            <a:off x="4500720" y="2879640"/>
            <a:ext cx="3700440" cy="3060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720360" y="634680"/>
            <a:ext cx="7808760" cy="1747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Шаблоны</a:t>
            </a:r>
            <a:r>
              <a:rPr b="1" i="1" lang="ru-RU" sz="5400" spc="-1" strike="noStrike">
                <a:solidFill>
                  <a:srgbClr val="99284c"/>
                </a:solidFill>
                <a:latin typeface="Arial"/>
              </a:rPr>
              <a:t> и </a:t>
            </a: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трафареты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899640" y="2519280"/>
            <a:ext cx="763740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99284c"/>
                </a:solidFill>
                <a:latin typeface="Arial"/>
              </a:rPr>
              <a:t>тонкая пластинка, в которой прорезаны знаки, рисунок, подлежащие воспроизведению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3959280" cy="341964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4859280" y="3419640"/>
            <a:ext cx="3521160" cy="2700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" descr=""/>
          <p:cNvPicPr/>
          <p:nvPr/>
        </p:nvPicPr>
        <p:blipFill>
          <a:blip r:embed="rId1"/>
          <a:stretch/>
        </p:blipFill>
        <p:spPr>
          <a:xfrm>
            <a:off x="566640" y="2519280"/>
            <a:ext cx="3932280" cy="360036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4859280" y="1079640"/>
            <a:ext cx="3240000" cy="2700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900000" y="1079640"/>
            <a:ext cx="3240360" cy="306072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2"/>
          <a:stretch/>
        </p:blipFill>
        <p:spPr>
          <a:xfrm>
            <a:off x="4500720" y="2879640"/>
            <a:ext cx="3600360" cy="306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2560" y="65232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12384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99284c"/>
                </a:solidFill>
                <a:latin typeface="Arial"/>
              </a:rPr>
              <a:t>Наши предположения: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80640" bIns="0" anchor="t">
            <a:normAutofit/>
          </a:bodyPr>
          <a:p>
            <a:pPr marL="492120" indent="-42228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Ориентировка по плану и карт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2120" indent="0">
              <a:lnSpc>
                <a:spcPct val="87000"/>
              </a:lnSpc>
              <a:buNone/>
              <a:tabLst>
                <a:tab algn="l" pos="0"/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Использование шаблонов и трафаретов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2120" indent="0">
              <a:lnSpc>
                <a:spcPct val="87000"/>
              </a:lnSpc>
              <a:buNone/>
              <a:tabLst>
                <a:tab algn="l" pos="0"/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Составление паркетов и мозаи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2120" indent="0">
              <a:lnSpc>
                <a:spcPct val="87000"/>
              </a:lnSpc>
              <a:buNone/>
              <a:tabLst>
                <a:tab algn="l" pos="0"/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Ознакомление с объемными геометрическими фигурами  и их изображениям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720720" y="771480"/>
            <a:ext cx="78087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8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99284c"/>
                </a:solidFill>
                <a:latin typeface="Arial"/>
                <a:ea typeface="Lucida Sans Unicode"/>
              </a:rPr>
              <a:t>Объемные </a:t>
            </a:r>
            <a:br>
              <a:rPr sz="6600"/>
            </a:br>
            <a:r>
              <a:rPr b="1" i="1" lang="ru-RU" sz="6600" spc="-1" strike="noStrike">
                <a:solidFill>
                  <a:srgbClr val="99284c"/>
                </a:solidFill>
                <a:latin typeface="Arial"/>
                <a:ea typeface="Lucida Sans Unicode"/>
              </a:rPr>
              <a:t>фигуры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1"/>
          <a:stretch/>
        </p:blipFill>
        <p:spPr>
          <a:xfrm>
            <a:off x="2700360" y="3060720"/>
            <a:ext cx="3419280" cy="287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079640" y="1170000"/>
            <a:ext cx="2700360" cy="243036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2"/>
          <a:stretch/>
        </p:blipFill>
        <p:spPr>
          <a:xfrm>
            <a:off x="4859280" y="3419640"/>
            <a:ext cx="2567160" cy="233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671400" y="674640"/>
            <a:ext cx="78091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99284c"/>
                </a:solidFill>
                <a:latin typeface="Arial"/>
                <a:ea typeface="Lucida Sans Unicode"/>
              </a:rPr>
              <a:t>Диагностические задания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1"/>
              </a:rPr>
              <a:t>Диагностические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2"/>
              </a:rPr>
              <a:t>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3"/>
              </a:rPr>
              <a:t>задания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4"/>
              </a:rPr>
              <a:t>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5"/>
              </a:rPr>
              <a:t>для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6"/>
              </a:rPr>
              <a:t>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7"/>
              </a:rPr>
              <a:t>Захара.wmv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9" name=""/>
          <p:cNvGraphicFramePr/>
          <p:nvPr/>
        </p:nvGraphicFramePr>
        <p:xfrm>
          <a:off x="1819440" y="1805040"/>
          <a:ext cx="6119640" cy="1052640"/>
        </p:xfrm>
        <a:graphic>
          <a:graphicData uri="http://schemas.openxmlformats.org/drawingml/2006/table">
            <a:tbl>
              <a:tblPr/>
              <a:tblGrid>
                <a:gridCol w="1804680"/>
                <a:gridCol w="4314960"/>
              </a:tblGrid>
              <a:tr h="93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Осарина Е.Ю., Фрид М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Симметрия, орнаменты и моза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Бардина Р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Куда не ходят по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Мальцева И 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Бродил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0" name=""/>
          <p:cNvGraphicFramePr/>
          <p:nvPr/>
        </p:nvGraphicFramePr>
        <p:xfrm>
          <a:off x="1036800" y="3881520"/>
          <a:ext cx="6119640" cy="701640"/>
        </p:xfrm>
        <a:graphic>
          <a:graphicData uri="http://schemas.openxmlformats.org/drawingml/2006/table">
            <a:tbl>
              <a:tblPr/>
              <a:tblGrid>
                <a:gridCol w="1804680"/>
                <a:gridCol w="4314960"/>
              </a:tblGrid>
              <a:tr h="65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М Н Султан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Развиваем пространственное мыш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Е В Колесник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Цвет и фор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1" name=""/>
          <p:cNvGraphicFramePr/>
          <p:nvPr/>
        </p:nvGraphicFramePr>
        <p:xfrm>
          <a:off x="565200" y="5319720"/>
          <a:ext cx="6119640" cy="351000"/>
        </p:xfrm>
        <a:graphic>
          <a:graphicData uri="http://schemas.openxmlformats.org/drawingml/2006/table">
            <a:tbl>
              <a:tblPr/>
              <a:tblGrid>
                <a:gridCol w="1805040"/>
                <a:gridCol w="4314600"/>
              </a:tblGrid>
              <a:tr h="93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И Ф Шарыгин, Т. Г. Шарыг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Первые шаги в геомет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sp>
        <p:nvSpPr>
          <p:cNvPr id="1092" name=""/>
          <p:cNvSpPr/>
          <p:nvPr/>
        </p:nvSpPr>
        <p:spPr>
          <a:xfrm>
            <a:off x="671400" y="679320"/>
            <a:ext cx="78044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  <a:ea typeface="Lucida Sans Unicode"/>
              </a:rPr>
              <a:t>Литератур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55560" y="2160720"/>
            <a:ext cx="78040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99284c"/>
                </a:solidFill>
                <a:latin typeface="Arial"/>
              </a:rPr>
              <a:t>Спасибо за внимание </a:t>
            </a:r>
            <a:endParaRPr b="1" i="1" lang="en-US" sz="9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circle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51960" y="615960"/>
            <a:ext cx="7807320" cy="1542960"/>
          </a:xfrm>
          <a:prstGeom prst="rect">
            <a:avLst/>
          </a:prstGeom>
          <a:noFill/>
          <a:ln w="0">
            <a:noFill/>
          </a:ln>
        </p:spPr>
        <p:txBody>
          <a:bodyPr lIns="0" rIns="0" tIns="1432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99284c"/>
                </a:solidFill>
                <a:latin typeface="Arial"/>
              </a:rPr>
              <a:t>Цель проекта: </a:t>
            </a:r>
            <a:endParaRPr b="1" i="1" lang="en-US" sz="6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821880" y="1439640"/>
            <a:ext cx="76374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99284c"/>
                </a:solidFill>
                <a:latin typeface="Arial"/>
              </a:rPr>
              <a:t>Познакомить студентов с комплексными заданиями</a:t>
            </a:r>
            <a:r>
              <a:rPr b="0" i="1" lang="en-US" sz="44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99284c"/>
                </a:solidFill>
                <a:latin typeface="Arial"/>
              </a:rPr>
              <a:t>с использованием лабиринтов, мозаик, орнаментов, шаблонов и трафаретов</a:t>
            </a:r>
            <a:endParaRPr b="0" lang="en-US" sz="4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99284c"/>
                </a:solidFill>
                <a:latin typeface="Arial"/>
              </a:rPr>
              <a:t>Лабиринт</a:t>
            </a:r>
            <a:endParaRPr b="1" i="1" lang="en-US" sz="6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745920" y="1982880"/>
            <a:ext cx="7637400" cy="28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99284c"/>
                </a:solidFill>
                <a:latin typeface="Arial"/>
              </a:rPr>
              <a:t>запутанная сеть дорожек, ходов, сообщающихся друг с другом помещений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2506680" y="600120"/>
            <a:ext cx="3876480" cy="5580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671400" y="635040"/>
            <a:ext cx="7809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5224320" y="816120"/>
            <a:ext cx="2776680" cy="244944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2"/>
          <a:stretch/>
        </p:blipFill>
        <p:spPr>
          <a:xfrm>
            <a:off x="816120" y="652320"/>
            <a:ext cx="2776320" cy="261324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3"/>
          <a:stretch/>
        </p:blipFill>
        <p:spPr>
          <a:xfrm>
            <a:off x="2938320" y="3755880"/>
            <a:ext cx="2776680" cy="2449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99284c"/>
                </a:solidFill>
                <a:latin typeface="Arial"/>
              </a:rPr>
              <a:t>Орнамент </a:t>
            </a:r>
            <a:endParaRPr b="1" i="1" lang="en-US" sz="6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745920" y="1619280"/>
            <a:ext cx="763740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i="1" lang="ru-RU" sz="2900" spc="-1" strike="noStrike">
                <a:solidFill>
                  <a:srgbClr val="99284c"/>
                </a:solidFill>
                <a:latin typeface="Arial"/>
              </a:rPr>
              <a:t>Узор, основанный на повторе и чередовании составляющих его элементов; предназначается для украшения различных предметов (утварь, орудия и оружие, текстильные изделия, мебель, книги и т. д.), архитектурных сооружений (как извне, так и в интерьере), произведений пластических искусств (главным образом прикладных)</a:t>
            </a:r>
            <a:endParaRPr b="0" lang="en-US" sz="29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1800360" y="720720"/>
            <a:ext cx="5040000" cy="5580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1079640" y="900000"/>
            <a:ext cx="7019640" cy="5040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5:30:23Z</dcterms:created>
  <dc:creator>Denis Rodman</dc:creator>
  <dc:description/>
  <dc:language>en-US</dc:language>
  <cp:lastModifiedBy>Администратор</cp:lastModifiedBy>
  <dcterms:modified xsi:type="dcterms:W3CDTF">2010-03-09T10:40:12Z</dcterms:modified>
  <cp:revision>44</cp:revision>
  <dc:subject/>
  <dc:title>Образовательные технологии в системе педагогической деятельности   </dc:title>
</cp:coreProperties>
</file>